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9528E-6604-4AA6-92C3-D6DAFB2C4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E77FF-1464-47C6-8447-2FD232534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22B7D-121F-45EA-90F2-64A678EC0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31A3C-9DD9-4D11-A746-33350DF4B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61ABC-0857-4D8A-B8D7-87D0AB44D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D795D-9980-4204-9977-20265F6F0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2A191-9359-48E9-9751-2F25BAA71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485AB-FBF9-4EE0-AB3B-92C5E19ED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49F9B-F0C8-4DF1-8C8A-6C04973EF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8139D-BF95-44FB-ABAA-FDFB365E5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7D927-E50A-4A93-AAAA-64B47C250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D1011-3D60-40E2-AD29-4D0B77247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E4AF1-02DD-4250-AF8A-500ADC2F6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A555B-8C88-4A84-86C7-0188F2987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7EFF4-4A73-4AC7-8F4C-E7847835B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D4C17-B1CB-4606-B031-C8B200F00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BDF8E-6988-4492-B760-98297E312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55EE1-4580-4D96-AFB3-6B1B60482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966BF-C043-4412-9D54-059666936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D54E4-6D06-4396-AD89-00164ED6B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96898-8E4F-4E00-AD0B-073CD3E90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3A077-C32B-4900-AB82-B138EC4A5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EF581-24CD-4DC1-B23A-5FEDED8C8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41704-AE18-4E77-9CA2-E6C3324DF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E163E-4D8B-4259-97E0-D57F0A55E883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84A5D-F49D-4D08-BE3D-46113D9302C6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lvl="2" marL="914400" indent="227160" algn="ctr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  <a:p>
            <a:pPr lvl="3" marL="1371600" indent="112680" algn="ctr"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2120" y="10666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2a3d7a"/>
                </a:solidFill>
                <a:latin typeface="굴림"/>
              </a:rPr>
              <a:t>이온도입치료</a:t>
            </a:r>
            <a:r>
              <a:rPr b="0" lang="ko-KR" sz="4400" spc="-1" strike="noStrike">
                <a:solidFill>
                  <a:srgbClr val="2a3d7a"/>
                </a:solidFill>
                <a:latin typeface="굴림"/>
              </a:rPr>
              <a:t>(Iontophoresis, Ion transfer)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038320" y="43513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71640" y="188640"/>
            <a:ext cx="7772400" cy="6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2a3d7a"/>
                </a:solidFill>
                <a:latin typeface="굴림"/>
              </a:rPr>
              <a:t>주의사항 </a:t>
            </a:r>
            <a:endParaRPr b="0" lang="en-US" sz="40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9640" y="836280"/>
            <a:ext cx="829944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항생제와 소독붕대로 치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화학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알칼리 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양극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산성 화학화상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열화상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이온에 의한 과민반응과 알러지 반응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해산물 알러지인 경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Iodine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사용하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정맥내 신우조영술에 좋지 않은 반응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Iodine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사용하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천식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Mecholyl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의 냄새가 좋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아스피린에 대해 문제가 있는 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salicylates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로 이온도입 시 별로 효과 없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금속 민감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copper, zinc magnesium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등의 사용시에도 같은 반응이 나타날 수  있음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 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3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전기쇼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이온도입치료의 장단점 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9640" y="1773000"/>
            <a:ext cx="829944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장점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품을 피부를 통해 주입하므로 소화기계 장애가 없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주사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injection)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에서 나타날 수 있는 피부손상이나 통증이 없다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병변이 피부 가까이 있는 경우 직접 약물을 치료부위에 정확히 적용할 수 있다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침범된 기관의 치료 시 피부 장기 반사궁을 통한 간접적인 혈액순환 증가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물이 피하에 저장되어 치료효과가 장시간 지속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단점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극성이 있는 약물을 제외하고는 이온도입이 안됨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도입된 이온의 양을 정확히 측정하기가 어렵다 →과다용량에 의한 부작용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042920" y="0"/>
            <a:ext cx="7058160" cy="69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정의 및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2101320"/>
            <a:ext cx="8229600" cy="46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용어정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이온도입치료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직류전류를 이용해서 약물 이온을 피부 또는 점막을 통해 신체의 안으로 침투시키는 치료방법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이온화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물질이 해리되어 전하를 띤 입자 즉 양이온과 음이온으로 나누어지는 현상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전기영동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전류에 의해 이온이 이동하는 것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685800" y="990720"/>
            <a:ext cx="815328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4) Cataphoresis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전리되지 않은 지방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단백질 등과 같은 콜로이드 분자가 음극으로 이동하는 특성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5)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음파영동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phonophoresis)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초음파를 이용하여 피부를 통해 약물을 피하조직으로 침투시키는 것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관련실험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Leduc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의 실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감자실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00000" y="69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물리적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5564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약물의 이온농도 최대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용매의 이온농도 최저 → 최대효과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약물농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일반적으로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-5%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전류강도 낮을수록 효과적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5mA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이하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치료부위 혈류량이 많을수록 약물의 농도 희석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치료시간 보통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5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 이하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점막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-3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피부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5-20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심부조직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30-60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71640" y="54936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4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생리적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81536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침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대개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mm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이하의 진피층까지 침투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피하주사와 비슷한 효과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전류에 의한 이온침투깊이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적어도 근육층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㎝ 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지용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조직에 바로침투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-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친수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이온화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복합 성질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전류의 밀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 전극의 전류 밀도를 낮추어야 한다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.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의 크기를 양극의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배로 한다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자극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&gt;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양극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활성전극의 표면적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㎠ 당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0.1-0.5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㎃ 또는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0.5-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㎃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1066680" y="1066320"/>
            <a:ext cx="777240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3)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이온도입의 양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: I × t × ECE(I 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전류강도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ECE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전기화학당량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, t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치료시간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치료적 적용 및 주의사항 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81374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1)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적용단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모든 다이얼은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zero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에 맞춘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기계의 선택 스위치를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continuous galvanic current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에 맞춘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⑶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사용하려는 이온의 극성과 활성전극의 극성을 일치 시킨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⑷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치료부위에 사용할 이온 연고를 바르고 패드를 덮는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⑸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활성 패드전극은 거즈나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cotton, felt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로 하며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패드의 두께는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0.5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인치 정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⑹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금속전극이 직접 피부에 닿지 않도록 주의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684360" y="836280"/>
            <a:ext cx="815472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에 집중되는 화학적 자극제에 의한 피부손상 예방 ← 음극전극 크기를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2-3mA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까      지 감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⑻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패드부착이 곤란한 곳은 욕조를 분산전극으로 사용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⑼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전선이 피부에 닿지 않도록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⑽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하게 찌르는 듯한 감각이 들때까지 올리는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불쾌감을 느낄 때는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2-3mA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까지 감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⑾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burning sensation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이 발생되거나 자극이 심해지면 즉시 강도를 서서히 즐이고 피부를      검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⑿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치료 종료시 전극 분리 후 패드 및 전극에 생성된 화합물을 제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패드 건조 보관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⒀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 및 피부를 주위해서 관찰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05:57:42Z</dcterms:created>
  <dc:creator>ahn mock</dc:creator>
  <dc:description/>
  <dc:language>en-US</dc:language>
  <cp:lastModifiedBy>win xp</cp:lastModifiedBy>
  <dcterms:modified xsi:type="dcterms:W3CDTF">2005-03-14T15:04:18Z</dcterms:modified>
  <cp:revision>5</cp:revision>
  <dc:subject/>
  <dc:title>이온도입치료(Iontophoresis, Ion transfer)</dc:title>
</cp:coreProperties>
</file>