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22EA7-F3BA-487A-9D94-4F77122F9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E0CBD-2D3D-4615-9DF2-80ABCDADF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DD4A1-B347-4FD2-A224-5AE9BF09F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C47F8-039D-4D4B-B2E5-4E6986D3F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E832B-9905-4A7B-849D-7F42698D2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12964-774A-44B1-85C8-F5245CD98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21A32-8F41-43B7-B587-23B6358FF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1B37A-5C27-4AEC-9D2A-BB3122449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8256D-99EC-4313-8B5C-2468C55BE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FAD72-7727-42C8-BAD1-4A931E044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19D05-98A4-4473-B762-9D4F3225E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2E932-7844-4665-8F93-7F52380CC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6BBA9-2563-4A98-9E0C-3335C2E67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FC5D5-C3E7-486C-9C37-357FD1489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A3B7A-8CFA-474C-9B72-DAAC075F6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90A17-6BCB-4457-9E6D-4C82F3F46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99D24-9198-4AB8-86B8-D228C8C56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91D9C-E98F-43AD-957B-383890AE6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406CC-EAE0-435F-99F6-3A96005EC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B160D-E6F9-4A25-8B33-C126370BB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69118-8CA1-4D90-A0DE-97E853384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15D05-8A12-49C5-9EC2-50D57D4A8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77398-30A9-4206-91C4-892B46FF9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FC303-CF70-4C3B-90B8-BFA2E948E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5CF1F-850C-4887-8CD0-8C4840A89E4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BCB9E-DFED-439E-B129-42EB3DE3858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3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원의 권리•의무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의무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소극적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치 활동의 금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집단 행위의 제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영리업무 및 겸직금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권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광의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육을 받을 권리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육을 할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익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헌법의 교육의 기회를 균등하게 받을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친권적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모의 자녀에 대한 교육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위탁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가 교육할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제사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고등전문직으로서의 자유재량권 행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권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협의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윌슨의 저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반행정 당국으로부터 교육당국의 독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유로운 교육의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정의 제정 및 운영에의 참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당한 지배로부터의 자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학의 학문적 자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주적인 단체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란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는 어떻게 부여 받는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는 어떻게 지키는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언행일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위로서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통제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기술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급별에 따라서 교원의 권위는 달라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권위의 구성 요인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권위의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유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신수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통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합리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1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 자신의 내재적 권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덕적 사회적 성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2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외재적 요인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지적 이론적 측면에서의 수월성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3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제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의 요인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권위에 대한 학생의 태도와 심리적 경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크라테스는 왜 죽었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너 자신을 알라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악법도 법이다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우리의 권리와 의무는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신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정 직업인으로서 교사자격증을 가지고 정규 학교에서 학생들을 대상으로 교육활동을 하는 전문적인 직업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유치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초등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중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공민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기술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수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각종학교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&amp;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산업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방송통신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기술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각종학교 등의 공•사립의 모든 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설강습소와 직업훈련원은 아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종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등학교와 특수학교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직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와 직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원과 배치는 대통령령으로 정한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총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임강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예교수 추대는 대통령령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.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정직원과 조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치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정 교모 이하인 경우는 원감을 두지 않을 수 있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)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초등학교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&amp;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학교의 교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종류의 교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 자격 종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1, 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급 정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준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상담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서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건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기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 자격 종류는 직위가 아니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직교사는 업무 분장상의 보직 명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그러나 직위 또는 자격이 아니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적극적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적 교육활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극적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신분보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권침해 사항 방지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적극적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율성의 신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적 능력의 자율성 보장과 함께 사회적 책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치적 중립성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생활보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보수 수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p. 10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무조건 개선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급당 인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업 부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잡무 과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지•후생제도의 확충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연금체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녀학비 및 장학금 지급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무주택 교원 지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소극적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신분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쟁송제기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징계의 사유와 종류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. 118 &amp;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-11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이내에 재심 위원회에 재심 요청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연장 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6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이내에 행정 소송 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불체포특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행범이 아닐 경우에는 학교장의 동의 요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직단체 활동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의무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적극적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 및 연구활동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복종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품위 유지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밀엄수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9T02:25:13Z</dcterms:created>
  <dc:creator>XPuser</dc:creator>
  <dc:description/>
  <dc:language>en-US</dc:language>
  <cp:lastModifiedBy>staff</cp:lastModifiedBy>
  <dcterms:modified xsi:type="dcterms:W3CDTF">2008-10-10T05:14:04Z</dcterms:modified>
  <cp:revision>8</cp:revision>
  <dc:subject/>
  <dc:title>제 3장 교원의 권리•의무</dc:title>
</cp:coreProperties>
</file>