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5F1FF-7D4F-4908-A490-D11305F55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15E92-4F52-4105-B504-53797208A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64D41-C3F9-4F23-B2ED-08AA9D822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D98AA-4426-4BCD-B06B-4DC564C31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E64FD-A2F8-4B6C-A619-AAAA9310E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0F83D-8C3B-4DA7-B723-502F11F57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A0718-70B5-480F-8C8A-6F4E757D0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3ABBD-978A-44AC-87A8-76F90270F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09CD7-5E68-42F7-BABA-8FB9F9CEC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0F216-4751-4378-8439-349B0D4A5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7D7CA-EBA5-487A-8C81-2DE6F0017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E5FD0-46A1-4068-AA31-16335CC49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AF03A-E434-4052-829A-8D054004D28E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46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대학교병원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80520" y="4436640"/>
            <a:ext cx="8533080" cy="186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생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김은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혜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기간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8.12.29 ~ 09.02.20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교 통 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치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광역시 서구 구덕로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5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하철 이용시 편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 지하철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선 토성동역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번 출구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 내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화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머리망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블라우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카라있는 면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초기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퇴근시 정장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후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편안한 복장으로 출퇴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말 휴무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5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+</a:t>
            </a:r>
            <a:r>
              <a:rPr b="1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α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원 식당에서 해결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권구입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,5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물리치료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장님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실장님 외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5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8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SOAP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노트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주일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씩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첫 주 제외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약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에 한번 걷어서 검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과제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논문 번역 발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실습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8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실습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을 접할 수 있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직접 환자를  다룰 수 있는 기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밥이 비싸고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이 좁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Windows XP</cp:lastModifiedBy>
  <dcterms:modified xsi:type="dcterms:W3CDTF">2009-04-09T08:11:46Z</dcterms:modified>
  <cp:revision>12</cp:revision>
  <dc:subject/>
  <dc:title>영남대학교의료원</dc:title>
</cp:coreProperties>
</file>