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555C9-50C4-4D2E-A4AA-6B10ACA6A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AFCE4-BDD1-471D-9C52-815620496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6381B-F06C-4026-A049-9629378B8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E388B-B59A-4720-8760-777EAAFDD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B689C-A0D9-4AFD-8358-FBDBCA600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A6D58-4EEA-4475-9245-009B11BD0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E1169-7EF2-4488-82DB-680137B3F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110C7-F8DF-43E8-84B6-911A038B5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E826F-7F3F-4307-BFEB-70C8CAD5D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3B1C8-FEA0-43BD-A465-DDB0B896F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30C56-738C-49B1-B880-2F919D188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B9B75-6521-483C-B157-FD3B0F9A5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AAFB4-19C2-45E9-B46D-A0D4B786A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8A5B6-4786-44A7-B74D-A268992BD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3147F-65D3-4710-B87A-B18DEAFD8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97F06-3558-4BB9-8691-9EC2513AD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9B93F-363F-4AA7-AD8D-6FA8A5BDF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598FE-9BB4-4E8B-B187-4795AE067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F820E-66A0-4F71-A2C6-DAD5C4D09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289B6-DA0D-49FE-8AC0-BBF0FF9FA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E3D89-A715-4570-B143-32F40F97E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335B5-326B-4C2B-8313-1D48A8ACF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73280-9B7F-4598-B0D7-6F2F9912C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1F1C9-970E-4A98-A48E-9AD7F02D1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7750E-EFD1-4A81-9D54-9F143D0AEF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E156C-04F7-4D09-A27D-1FDE23077E5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7</a:t>
            </a: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장 교사의 인사 및 복무 </a:t>
            </a:r>
            <a:endParaRPr b="1" lang="en-US" sz="48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등과 자유에 대하여 생각해 보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인사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사행정의 영역 또는 기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무의 분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신규채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무평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승진 및 배치전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등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7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쪽 참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인사행정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활동의 주체가 되는 교원이 이들을 지원하는 교육전문직과 일반직을 확보하고 자질을 향상시켜 근무의욕을 높여 주는 일련의 행정지원 활동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인사행정의 원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확립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실적주의와 연공서열주의의 적절한 조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정성 유지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적재적소 배치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적정수급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공무원의 분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교수 학장 총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 중등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치원 교사 원감 원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학사 장학관 교육장 교육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연구사 교육연구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09" name="Picture 3" descr="MCj04042630000[1]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staff</cp:lastModifiedBy>
  <dcterms:modified xsi:type="dcterms:W3CDTF">2008-12-10T09:05:28Z</dcterms:modified>
  <cp:revision>7</cp:revision>
  <dc:subject/>
  <dc:title>제 6장 교사교육 </dc:title>
</cp:coreProperties>
</file>